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EC1-6542-4331-9FA1-D222FAD5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C93-19AA-49C3-AC07-93E610B8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24A-A8A3-464D-8A00-7F6AE67A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90A-5454-404C-BF81-0DECEB7D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997-C0C3-4792-8684-9C21BC12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66ED-1CBD-42DB-94AD-08B6D42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944E-C3AF-45DA-A4AE-1C73AA1C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B527-5648-4C76-8FFB-1D9E51B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414-E25C-48D1-82C3-21DC062C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5570-2C21-4173-9426-D30EC63C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2E9-124A-4F47-96B7-C2D8255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8A0-FC9E-4901-BDA7-C9AA92A2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F5E9-25B0-4695-B648-692296F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5D87-AD03-41A7-9770-2435CEE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DD1B-3396-45D4-AFD4-58E3A65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72B7-CD05-44F7-A16C-A75B8B65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7BCD-7202-432C-8A11-3F421CAC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50D-BD5F-431C-81F7-E781AC17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BE3-858E-4B73-8C59-3716013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C9B-9D0F-4220-AB19-B2974D6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BCD-C896-4665-A729-E84434A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915-C22F-4187-83D4-0C62B98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603-1133-41F7-8C63-17711C5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CE2-3154-4D16-A09F-6235ECC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B64-3269-4ED1-936C-08FFD2CBDC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52E1-60B9-471C-9C2F-E69884D014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ekton Pro Ext"/>
              </a:rPr>
              <a:t>Johnathan Stewa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Blackadder ITC"/>
              </a:rPr>
              <a:t>I’m good at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Video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Stout"/>
              </a:rPr>
              <a:t>Math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99"/>
                </a:solidFill>
                <a:latin typeface="MS Reference Sans Serif"/>
              </a:rPr>
              <a:t>My favorite websit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Verdana"/>
              </a:rPr>
              <a:t>23isba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urlz MT"/>
              </a:rPr>
              <a:t>Airjordan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Niketal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Rockwell"/>
              </a:rPr>
              <a:t>My favorite teach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andy D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im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rs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w Cen MT Condensed"/>
              </a:rPr>
              <a:t>If I could I woul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oper Std Black"/>
              </a:rPr>
              <a:t>I would lower gas prices to 1 doll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Narrow"/>
              </a:rPr>
              <a:t>I would make Ozen have off campus l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oper Std Black"/>
              </a:rPr>
              <a:t>I would make the world a better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Gigi"/>
              </a:rPr>
              <a:t>In 10 years 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iddyup Std"/>
              </a:rPr>
              <a:t>I will be 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ench Script MT"/>
              </a:rPr>
              <a:t>I will have a lion in the backyard for people who want to st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ajan Pro"/>
              </a:rPr>
              <a:t>I will have 4 veh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 Extra Bold"/>
              </a:rPr>
              <a:t>My favorite athlete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Demi"/>
              </a:rPr>
              <a:t>Kobe Bry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Vince C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Orator Std"/>
              </a:rPr>
              <a:t>Baron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48520" y="3581280"/>
            <a:ext cx="2571480" cy="228600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34:28Z</dcterms:created>
  <dc:creator>762913</dc:creator>
  <dc:description/>
  <dc:language>en-US</dc:language>
  <cp:lastModifiedBy>762913</cp:lastModifiedBy>
  <dcterms:modified xsi:type="dcterms:W3CDTF">2008-10-23T15:45:55Z</dcterms:modified>
  <cp:revision>7</cp:revision>
  <dc:subject/>
  <dc:title>Johnathan Stewart</dc:title>
</cp:coreProperties>
</file>